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F39-8710-426C-A61D-0352C56E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CF1-F6BD-4963-98EE-A6DDA841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76D-F400-4B00-8EC6-B0D33F4F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2C5-AFA3-43A6-B482-19ED9A66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38E7-6F9E-4D35-A1D8-3F9B3C0C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6E0A-B168-4B40-9A1E-7095751B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3921-44C4-4886-A8E2-8B277226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5EAE-DDB9-4D74-8B6F-3F0A05A4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1B25-6A00-4FD9-A652-25877682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4A34-CCB7-4E3A-BFA1-EB198036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5F8E-9274-4177-9412-15FA63F2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480-51DA-43B9-92C8-A5C4DF13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7ECD-36E3-43CB-B7E9-665F7BC1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323E-A724-48D6-8917-65A57557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F4F0-E32D-4A0C-ACF1-96736997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361F-7C72-4CC7-B33D-79F30455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E5E3-BE2D-4947-B45E-8A9BE0A6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6AA3-3376-421E-B004-2B0036CF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DF75E-C9C0-4293-9310-29E118B8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07F7-A344-4A80-B77A-CF570BA2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4712-C67A-4A92-A841-35187CA4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C9D6-B0C9-40AF-A35C-6A3CEDC2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D15-EF2E-453E-9A02-B5913BF7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2786B-6E01-4C3D-B4F7-95EB2F49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DC13-51CD-4EDC-B3C9-534D1EB7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8609-F779-43AA-9D8F-BD80AEA5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ED4BB-1425-41E3-9811-A2562B00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398B-A59C-470B-A4A4-645F8346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4880-3D08-4E4F-A1BF-05E4BE2D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2086-82B5-423F-87EF-8889F9CA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A1A5E-85C4-477B-97A1-EB39C25F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4BB7-9141-4362-B3F0-78964942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246A-D979-44C6-B562-2367077A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C2C-098C-4149-B6BB-A43B087A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1C2E3-A41C-491D-9F8B-E7C64ECE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28D3-BC16-4B3C-A60F-C94E5D81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F1693-9746-4477-96E4-40054163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4745B-7AAA-47FE-A4AA-0D6B64DA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76CD-D128-4061-AF80-9775D0D8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5C3BF-BEBF-46E1-A70A-2FB8518C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D978-6BD1-48F4-8E1A-F4C680ED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B68E7-DC27-4677-98CC-5284DD52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22BDD-C95B-4419-8DBD-7A9F1869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658-687F-4074-B00F-DAA3E1F4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2A0-756B-482A-B5A1-38917077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EA1-A45C-402C-948B-F75D8D82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8C4-259A-4C6F-A8EF-18FDEAC2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6C2-E583-40F9-9275-6F28EC90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B4D5-BD46-44A6-BAE2-FDDA57F0CE2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7E1D-10B0-42AA-B816-E52EEAC4CF1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1B1-D3C3-4A32-A1B1-1D7A2EE6DE9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344E-086D-47DF-8DE6-D45FCF1B102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79200" y="1047600"/>
            <a:ext cx="9302400" cy="1744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5643720"/>
            <a:ext cx="81104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500040" y="4714920"/>
            <a:ext cx="8229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амарин Евг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43 группа физико-математического факульт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Г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стемы робо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ет две системы конструкции робо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6" name="Прямая со стрелкой 4"/>
          <p:cNvCxnSpPr/>
          <p:nvPr/>
        </p:nvCxnSpPr>
        <p:spPr>
          <a:xfrm flipH="1">
            <a:off x="1928160" y="2284920"/>
            <a:ext cx="150084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7" name="Прямая со стрелкой 6"/>
          <p:cNvCxnSpPr/>
          <p:nvPr/>
        </p:nvCxnSpPr>
        <p:spPr>
          <a:xfrm>
            <a:off x="5286240" y="2285640"/>
            <a:ext cx="1501200" cy="1072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TextBox 7"/>
          <p:cNvSpPr/>
          <p:nvPr/>
        </p:nvSpPr>
        <p:spPr>
          <a:xfrm>
            <a:off x="270720" y="3500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бот на дискретных элем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5036400" y="350028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бот  с микроконтролл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714240" y="4143240"/>
            <a:ext cx="2590920" cy="2143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000760" y="385776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57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обот на дискретных элемента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стоинств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жно собрать не имея опыта программир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достаток: Для изменения или увеличения функций необходимо изменять всю схем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Рисунок 4" descr="помогите.WMF"/>
          <p:cNvPicPr/>
          <p:nvPr/>
        </p:nvPicPr>
        <p:blipFill>
          <a:blip r:embed="rId1"/>
          <a:stretch/>
        </p:blipFill>
        <p:spPr>
          <a:xfrm>
            <a:off x="4000680" y="4500720"/>
            <a:ext cx="2523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бот с микроконтроллер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стоинств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ункции робота можно изменить не изменяя схему, а изменив программ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достато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обходимо уметь программиров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3857760" y="4143240"/>
            <a:ext cx="22381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 кур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ть робота, который буде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вигаться по определенной траектор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85724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Для достижения цели нам предстои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ить основы архитектуры микроконтроллеров и микроЭВ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готовить контроллер робот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учиться азам программирования на языке Си (для этого предстоит выполнить ряд лабораторных работ по программированию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готовить ходовую часть робота, датчики и т.п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полнительными задачами (для тех, кто все успеет сделать) могут быть задачи поиска света, объезда препятствий, реализация связи с внешней ЭВМ по последовательному интерфейсу RS232, работа с АЦП и т.д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7120" y="400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Заинтересовался?</a:t>
            </a:r>
            <a:br>
              <a:rPr sz="7200"/>
            </a:b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 Приходи!</a:t>
            </a:r>
            <a:br>
              <a:rPr sz="7200"/>
            </a:b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 Мы ждем тебя!!!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точники информ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рпов В.Э., Волкова Т.А., Платонова М.В. Мобильные минироботы. Ч.2. Знакомство с микроконтроллерами и интегральной схемотехникой: метод. материалы по проведению занятий со школьниками / Политехн.музей. –М., 2009. – 64 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www.railab.ru/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Захватят ли мир роботы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ми функциями должен обладать робот-спасател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в домашних условиях собрать робота ? Что для этого понадоби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сердце у робот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ем питаются робот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ужны ли глаза для робот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икроконтроллер. Что Эт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икроконтроллер – это компьютер на одной микросхеме. Он предназначен для управления различными электронными устройствами. Микроконтроллеры можно встретить во многих современных приборах, таких, как телефоны, стиральные машины, автомобил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нешний вид микроконтроллера ATMega8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2071800" y="17859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2876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нутри микроконтроллера есть процессор и периферийные устройства: FLASH-память, таймеры, интерфейсы для связи с внешними устройствами и множество других полезных схем. На нём удобно учиться программировать и изучать устройство компьюте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ы будем использовать микроконтроллер фирмы ATMEL, который называется ATMega8. В наших схемах он работает на тактовой частоте 7 МГц и обладает памятью в 8 килобайт. Немного, но для простых программ более чем достаточ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граммирование микроконтролле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икроконтроллер действует по заданной программе, которая загружается в него извне. Программа в нашем курсе будет писаться на персональной ЭВМ на языке высокого уровня Си, а затем эта программа должна быть загружена в микроконтролл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3143160" y="5072040"/>
            <a:ext cx="35719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ы микроконтролле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 робота есть органы для взаимодействия с окружающей средой. Органы, которые получают информацию из окружающей среды, называются рецепторами (или датчиками), например, фототранзистор, микрофон, контактный датчик (кнопка). А органы, которые воздействуют на окружающую среду – эффекторы: двигатели, динамики, светодиоды и проч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 микроконтроллера есть некоторое количество входов и выходов. К входам мы можем присоединить рецепторы, а к выходам эффекторы. Микроконтроллер может обрабатывать информацию с входов и создавать электрические сигналы на выходах в соответствии с тем, как мы запрограммируем поведение робо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3309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8:52:50Z</dcterms:created>
  <dc:creator>AustinS</dc:creator>
  <dc:description/>
  <dc:language>en-US</dc:language>
  <cp:lastModifiedBy>26090</cp:lastModifiedBy>
  <dcterms:modified xsi:type="dcterms:W3CDTF">2010-05-25T13:13:06Z</dcterms:modified>
  <cp:revision>18</cp:revision>
  <dc:subject/>
  <dc:title>Создание робота с использованием микроконтроллера.</dc:title>
</cp:coreProperties>
</file>